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5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.jpeg" ContentType="image/jpeg"/>
  <Override PartName="/ppt/media/image5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ftr" idx="7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 type="sldNum" idx="78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6719-2E12-4775-BF2C-5C8028070E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DFBF-D14C-4DDC-BAB7-CE3D2145417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D54-F00F-4708-9925-7A84E88E9D8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85E-1371-41AE-B44E-5516A14E8E5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A70-6398-42A6-B52A-9F5DFE26FDE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F8EA-EEB6-4113-A2A7-2D52F22D9322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RL setting and consumer risk assessment for all uses resulting in residues in food or f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1A14-A4F4-4F3E-B863-DD6C8F5EBDD2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5376-D334-4BA0-ADD2-56053D774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0894-AB18-478E-BB21-49BB26E6D9A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B0289-8807-40DA-B27B-76C197A6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D6875-146D-4E0D-91AC-4A9CB219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CD06F-7C76-4079-9DBA-1909CAB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B4916-7D3E-4C08-80FB-F9682AF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E7C5C-359F-439D-B33A-7E7D1D5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1C686-6182-4B6B-9454-619F692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18891-7904-43E2-9A2C-1C2C1588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9A2B0-1358-4E9F-B4F6-2F4DF81A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C9169-7287-432D-BD3D-1E99D0B5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01BB7-81DD-4192-859A-AEFD2824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D476-A681-4950-B59E-E858ED4E92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7A460-F2F6-471C-9F67-6526E150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3D8F84-891A-49FA-9FE9-78C38E49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229EF-055F-4BA3-B5D4-F7294721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6164D-5FE6-462D-A03C-931FCA7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DAF45-D733-420A-A603-3470A8A1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8FE50-55BB-40DC-BAC3-107B387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279C7-36C3-4876-98A4-E3A1A8A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FB04B-58C7-44A1-A7ED-06102315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21ED8-53CB-42A0-A61F-185410C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63CC2-BE0A-4620-B27E-6162ECD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84EF-5047-4F91-B393-0801BBAED94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3B9EC-A09F-4E81-BCFA-37E59910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081D4-F348-4D95-9458-D8583557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7F56C-4B92-431E-96D0-8D5C3A08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652B6F-3616-41CA-99F6-33314D3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961D6-693E-48A3-9188-D9E9AFDF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E2905-A58A-4BAF-AFFD-9C7C50E2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C614B4-D58B-47DC-80C3-9E6BA48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DB57E-7F7A-44A0-8A1B-12AFD9F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1B1C1-9210-46DF-A435-DB6E305A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5AA6D-D668-47D7-93D2-26AFBBE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5AC0-969D-449F-8A3A-B5F454A1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AFBE2-4492-4A07-B699-997903DC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97EF37-237C-4FA8-BB3B-0FD08AB1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123080-499C-4AD5-885B-BFE81E25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4DDBE4-DA20-4413-9494-77FE6722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9E5B70-8506-48F3-8262-765DCA6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5E92F-ADEF-4865-980A-7F9CFFBB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5EF4E1-806F-40FE-9790-F76B2BC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1C7F26-6CB4-4641-9D5E-1C9F24E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A0CE61-2470-43C2-8923-54AC36B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4CE9AC-A465-45F2-9A57-C9523A3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C1B9D-7780-46F2-BFAF-2691804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33C607-0610-43F4-A95E-3012FA7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B6802-216A-4E8F-A129-D54870C0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05BDF5-EADB-4E7C-A262-2C4B58DF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74D714-0A4D-41C7-A802-22898966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6382A-B14B-4D1F-B8A7-DF827740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791E0C-B1D6-4C2C-A3D2-82BC3823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8B5C06-44FF-4C0D-B69C-F5EDE64F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D24984-B6A8-4AA1-9B6C-677101F6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1470FB-81A9-4D6B-A23C-F41F745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D2CCB-1F2F-4ACF-848F-870E6CE3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2DCFD-01AE-4E55-A68A-96C4A37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596029-6E77-41D3-B980-0460FA78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A7CB0B-9153-4445-9C2F-94EB743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C15EAF-3052-4D03-8850-F526B95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A64021-9222-4D81-A438-ECC5FF8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509E1A-DAC5-4643-B44E-9B96D4E9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AD7599-ECDA-4618-976B-C2B7358F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25886F-3660-48F5-92FC-D2477BC4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830E68-88F7-4E9F-862E-9AA1116B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CD2F7B-A011-4837-B404-24B83993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8D3AC0-DEE3-41C0-B4EB-5545034B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D70C8-49B9-4AC1-99DA-28071382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01F094-F7E7-44B6-BF76-661B4AD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6C862C-A80C-4293-B743-F051E20A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76EB86-AE12-41CC-BD0E-6DC3C01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CA9AAE-95A1-4C1B-9E36-B4FFD9A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3259DA-C734-4D9C-9CF5-A7E7AB3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ED1FC-8ED8-4044-A636-F17839A5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3E9C7D-2248-4CA6-ADEB-FC63E702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4A9EBD-82BF-4254-8762-1A41766A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D2943E-7969-4478-A00D-E652D08A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57577-948E-49B5-8AFC-A9765D86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870DA-BB87-4ED1-AEB1-5C206B18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7091B-A456-411B-98B2-8E05155B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CFCB97-0709-48C3-BF47-BB49AB20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98D290-E4EE-4F48-B3C8-001C70A3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2F8380-FCDE-468A-B227-7B153D1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92B699-8F7C-4C7F-859A-A1BB02A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647333-148F-4E3F-9171-7555A2F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AB3DBE-4FF2-4B72-878B-526FB4B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A8060C-B800-4C43-9EE9-92A847E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D1ADB6-91B4-401C-A317-D3FC978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ECD706-E460-4729-9A40-CDEEC4F4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DEFA-D0CC-407B-AF5B-BDEF589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107A0E-493B-417E-928E-A3F862D8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76A3D0-ED03-4DF3-AC9B-7AA77054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A38E4E-AC8C-42EB-9DAD-0A781CF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03111F-3E5E-4981-8AF5-633C734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7E08D1-34B8-4903-A393-26013B4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24A9A2-85B1-4009-AA3D-E26A5E1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C9EDD7-74F5-4192-A54A-A3F40BAF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BF9926-3FD0-4D84-824F-44797001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13FE13-8508-432B-BC9E-65503C94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E18245-AE83-4DA0-A7ED-20CBAF73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DBFA4-F4C6-4265-9C8D-9788EA2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6EEE44-F0AD-4931-8341-EF2E4E70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1027DF-C4DD-47B0-BF80-0B9EE439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2D5641-DA15-4B31-B655-051A6F20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BD0BB0-7BBA-4E2E-8B12-267EC1EA391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D543DD-CE4E-41F1-A6F9-3BC93ACBDA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9CA9B5-959F-4745-8082-D3C3818D085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DB0DDB-76FB-4241-AE98-62290711352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587F1C-74AF-45BC-81AC-D2716D9A75A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527B24-CF5C-4447-944B-E17F9666570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78BC03-2411-4D8E-A94D-16358FCB7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6647-11E7-47F5-85D5-9E079611F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5FA28-A328-49A4-8BF2-CC710E1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812CB6-2E39-4D36-A799-CEBC399DBA4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E5BDC3-EAB9-4965-B820-CD025A4E56C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93D0CA-99BC-4ABB-9FCA-3D5A157B8A0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8993E1-D16D-4F33-8D9A-80B4767C5F0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890705-1784-4CC1-B4EF-8639179D69F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5C507A-1F53-4363-8542-667623DED5B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E82F4B-12BA-484F-A100-AC8D3CF56AD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D2AE08-9A18-4059-AE06-DED2C28C157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679629-A118-454E-A40D-21B0F9982E4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090DF9-4C58-4CF7-ACC4-53ECAA3A4F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82C3-1137-4DA2-B66D-2579A03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962B7A-5FA4-486A-9A4E-1D6F67703D0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7D827D-7C4D-4E51-8489-02A942B303E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BED50E-86B2-4275-ADED-AC30D5CC7B9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D295BB-C25C-4709-9DCD-411B57D2602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822972-1702-47FB-8B89-08C2A3CF85C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17F079-B791-4C4B-93A7-7E2F2B6B14D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FE2578-9713-4BA3-9AAD-AE5380F9B8C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E93E60-D83C-4026-AE1C-0C5D3D3A709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E65356-AEF8-4A29-A0E6-45E5F6E1C42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77F665-23D0-44F8-BE70-5CFA3AA7C4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49715-83E2-4E8C-BA14-7C1B05F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69D2FF-5D50-4766-8744-123B7EF4E08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8A60FE-D664-41FD-B46D-40C29116ECC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57DFFC-AF3E-4582-A43B-3D920387213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611C99-31FE-48FE-AF45-14CDDEDEAA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B85614-4EDE-4B14-B01B-506BC71120A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74B8EC-5BCD-495C-99A5-18342CF845E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64AC3C-6197-44CA-92C0-2509F61FD60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E6BB7D-7CB7-4444-9AAC-DC0CD2D9385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2526E6-A4AB-42CF-A0A1-B5674BA3A89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131742-E04B-4361-A3B0-27746A77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22AC7-E05E-46A5-BCC2-406BFA48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A36088-2680-4071-A558-E177550B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511116-C4FD-4E0B-A007-266EDC19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570205-F1F6-4757-BCA1-A087E49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6E74B5-B1F7-4A60-BCD8-EB5108A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17FD04-B6DC-45F3-8AEF-38B3F6E2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889282-249B-4B1D-9F70-43CBE468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A0F36BC-A667-476D-8287-794782A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13310D-D9E7-4E4A-9CF5-809E93FF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D46B17-518F-4A34-97FD-923A58F1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4E37D3-59E1-4C17-9F49-44FC78D0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60D04-BE86-4A05-B987-D6A6AA81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E4402D-B044-4F13-A69F-C253937B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4008F1-0F3D-4303-AFA0-20F01A74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98AA16-40CB-41A4-9879-110FB473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2C2AB9-90C5-46F4-A1E8-9DECB75B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5EFDEA-D56A-4F37-B9A2-4C972C06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3CF23E-751E-464E-AE6D-29754D50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A9BE60-545F-4F23-9D16-D67F3B33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9D336E-B813-4A56-960F-0CF33BA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552A7A-89EB-4200-9C48-DB4E31F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CA36AE-7699-40E7-AF60-D4A3C34E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B05EA-DFE7-4500-9F49-0CF0F284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D87B97-86DE-4160-8A0C-BDBA878C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8260D8-2896-4C67-8E16-66844F7F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73CAD0-97A6-4848-94D4-E9962EEE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C689AA-9BB3-4A86-AD13-E3A7981E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5140D3-CF2F-48F3-A286-EF121CE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186F66-C297-44BB-81DD-2A2CB005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389562-58B2-4534-984E-0DBA18C2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79C9C2-C965-4838-933C-6375CFC5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4474C7-583A-4A6C-A802-585D918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FF15A3-84F3-4D75-BEFC-08E7231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CB981-790D-4E66-8820-6D2768B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36C354-D5C7-43DB-8FF0-5FC9D55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33F6EA-100A-46CE-B02C-38286F91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6B5384-2836-43AA-BB99-75590B0E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799F6E-FF99-46AB-9484-19BF0B99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483459-5DDD-48D7-8256-F3826305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4F71BC-A3E6-4C06-B9D5-7BEB2EFA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2E639E-6FB0-48AA-930A-E16235C9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33F25D-E31C-4401-B78B-0381F8B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A35BAD-4DFD-4FB6-8808-79C5C7A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A3EB0F-9B1A-4EA9-8695-85F52C57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E8875-1D84-4EC9-9C8E-E2429FC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25607C-7CB8-42DA-AFA7-C4BC2BD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C3CD4D-8A97-47E9-B49C-F3CBEF81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A47046-B65E-4A45-A3BA-FC1F8DE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E287E4-7BB7-41C2-A446-82D9B16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17EE3F-1A94-4B84-BBA0-03A20B5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758700-8FA5-402A-BA28-E3F4470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B53313-F2E6-41DE-83CE-1C2C9182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2988EBF-5DC8-441E-8383-7551DF8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2828128-B0B1-46D4-8C1A-420C87A7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CADA9A-EBF1-4C11-B0E7-A1DE0D15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A3DC8-A4AD-4389-94E0-C4BEC142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FD78E1-D85C-4AB4-9CAA-4FCED4C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25A488-26D7-4F20-A927-40A84357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080215-BFDE-4A41-B1A1-9B21241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DB3C89-E6A6-48D4-80B9-8DD1A62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082FCC-48E1-474D-B320-C3DFF4C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CFE79F-B3B6-46A7-8F31-7283C02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451348-75B6-420A-810A-F48FBB4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034560-D18D-4E2F-AF7C-48D0DAD6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B1253E-09D3-43BF-BF89-9C24D087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C2AF390-396B-4DF4-875E-72C7B095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ACF5D-944C-4B69-8D09-EE333F53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30CD66-541F-48DB-B1FA-FAB0EF4E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F9ADEFA-21CF-42A9-82FE-C24FD288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9AE74C-6FA2-4F34-AB96-C572B521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94454C-65BF-4271-8951-2F3FA56D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C5F1637-2B2A-43D4-B46C-6F8B8CAC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047482-D8E8-4EFA-BBB5-77B79EB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6BF3C3-FCA6-4416-A069-38935031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54F3C0-5F31-4B99-AAD1-42AB031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EDD10E-5B0D-4D05-ADAC-C480F72A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DE1833E-69FC-479B-BCDA-2D21465E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96BA-5AB1-424A-A858-C5857B7FF6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8E583-7437-4B6A-9981-5374949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E2F655F-9345-4AA8-ADB2-6B383A71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AA17912-9155-41E2-B304-7FEF2415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7F510F8-8BBC-4B32-8E76-A809DF1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9E1E00B-405A-45B4-90CE-6C9B806F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959318-19C6-4F81-B627-F06190E5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689979B-C5E7-4E4E-A6DF-E359FA35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3A4C74-C2CB-48C1-B660-C5222AA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2B6137-C7D9-40DA-A59F-7F8C7EC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E67C82-9E45-431E-A094-7A17C13C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2BDF17D-B659-477F-BD43-F88C9A63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E9BE1-416F-4C28-8161-0468E619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57B48B4-D625-477A-8A30-187B41E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A86179-6875-41C7-952D-8311A511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1ADBBF5-7271-4E92-B49F-4716769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9075E2-692C-4EF5-B452-6F9F96FE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0858C39-024B-448D-99A9-A9504968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64B8D1-050C-4BF9-919C-A924CA8E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02DD33-08B4-4A6F-A8F9-2EDD53DB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C17743-951F-40A8-BFC7-586FC66E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F4C6D1-B377-4DB6-A243-F488E6A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9F2F1D3-9507-41F4-99B5-57216BD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349DA-0F18-421D-B625-BDA9CC2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8BC83B-4816-47B6-8F6E-426E86B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661116-BBF6-46F9-BA4C-30A07B2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CF7CF1-CE00-400B-B5D9-A5E29A7F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E1FC8B-3CE0-44CD-951A-B27C9563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A1D287E-9E7D-4F1B-8D95-AA0496B7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624DD25-ABC3-4066-8ED9-CD87FF1D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C5EE462-E90F-4745-AF6F-B807519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DA89CF4-C00B-4F8B-AF72-C36C00A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1AEDF9-1D08-4E70-9A97-736A47DA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B3CA03-09B1-4726-B2B9-3F8F2C95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28AA5-8374-45DA-951F-0860F7C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04EA0F5-7AD9-424F-9A51-24FCEAB2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7855A9E-82E7-44FC-820F-DB0A14BF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F7EA9CA-9A9B-44C1-A63E-CF68A77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22DCE9-6C5F-4F4D-8685-3B148C5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5F5A68E-6D7C-4466-81E6-EA8340E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DB132E4-197C-4072-94CC-B0E3C746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8F3769-1B40-4FB0-B97C-D3F2E947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C149F0-9AB9-4329-9F46-A1F6D450F0C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6ADF78-4C9F-42E9-B9D3-D3997EFA6E8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04DC60-EC92-4F2A-8E96-B876D7C3B1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0FD45-7584-4D65-A9B7-3A6AD253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99766-6C9A-40EF-97F9-2A1F9D595D3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763E75-6E73-4F89-8B38-943C0E16EA4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F6FB83-3655-44CD-A68A-A4168BD00F7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7AA3E-95D1-4804-9F2A-379889FC9FC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42F6D6-11E7-438C-9EA9-DFF9491A30D6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E12C83-DB84-4E23-B791-F278863143F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3F38A1-EAB3-4F11-8413-D82F6BE4467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87EEA-5599-410C-8049-32FD856E841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B7B3B0-6691-4FB6-B539-88D1544B8B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CD95A-F7E9-4839-AF51-96DDF80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D42C9-C421-45E7-B7B8-00572225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90E5-4BA2-46CD-A6EF-516AD0F7FD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3E8A-CC71-4C9F-B5A1-93301CDFAB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FD4B-FEF2-4302-A7AF-8601BD34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F2BC-D8FB-4245-A1FC-02D58E23D7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BC04-CD3D-4FD5-97D3-9F6A1B6716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43B3-82EC-4A86-A2F2-48DF74C91E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5436-3A1C-421D-9741-162D069936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8413-D413-4069-AB6D-FCEAC7BCA5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1AAD-288D-40F4-9F67-6F6A5E234F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1DC5-2A69-4EDF-B948-4B95B739EA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F2C3-6C83-449B-82DB-A81A9BDBA7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A9B0-A64F-4B60-8FCA-EAB4EB2918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C068-264B-4CE3-8A9E-6CC175908F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D5F5-5B44-47E1-8574-507187B99B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0C4A-2AE8-47B0-AFFB-81B16B623B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5466-C0E3-48E6-AC6C-710E41C495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7DE9-EE80-4C1B-86A4-1C1B8309FF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9A95-C456-4B71-8998-EBE28C430D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62C3-69FC-4614-8BA0-14F4345C20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1272-C93E-49C3-8E69-D6E27FE091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2401-CAF2-456D-9BA9-987CFC94BB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0602-5F03-400D-B9ED-78B5F0216A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87C1-1723-41E9-8EB8-8ADFAD6DC3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89C5-6374-41AB-84CC-46085D11F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A4F0-1D41-40E6-8243-482B2F9FE4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E099-DEF1-47C2-8F7D-98533BD73C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021F-1B2D-4C72-9BF1-7C79AF1A41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A5EC-58CF-49F2-93BD-1F5AC8CD0E2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21604-04D8-49C4-BBB4-3B2BC33C75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7A017-6DD4-4E6A-9E75-9710BDFB1B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22509-E825-49D5-829E-C331937A91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5142C-9805-4D5E-8346-98D64B8181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37499-529A-47E6-BCEE-6717B1377A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5DDE1-BA06-4DE6-B6B2-036EA6E754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636FE-24BB-4C90-9D54-7153E2815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C765-78F2-4A5D-A9BC-E31CFC9A6B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7D0EC-01EE-47B5-98AB-899235B6CC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DA203-365D-40AC-A247-E7D01F5EA2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16002-9184-43E2-9FED-9F6E7FED6A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ED7CB-7651-4785-937E-40FB6E848B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D6AF0-FCA0-4BF8-A283-133AB01C80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8CE9E-91C3-4695-8D06-E4E617AA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632D8-9EB3-43B4-A9EB-22FCC3EC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C2D81-DA2E-438A-9861-6FE66A85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67DF8-DB96-4935-BD17-79792A0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4A657-8474-434D-A7C1-166D62A1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FF90-FFF8-46AB-B438-92EEA2C684F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BAF5B-5CCE-4A15-BFEB-44C5950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B58BC-B9F9-4CB1-8D8D-C901589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648F3-B4DF-41AF-9BD7-7B8D435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DC061-7366-4E76-BCED-12CFA3F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31C1F-4B22-4BF4-93BC-01CB7DE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756DC-7579-46EE-B9E4-6A6E7507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DBC8B-EF3A-44B6-BD28-170A9AB8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99555-7F40-4095-AD96-E4FD9476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3C1A5-4BEB-49FC-BFB3-B9BE253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261E3-C631-44AE-B37C-085D044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Pro"/>
              </a:rPr>
              <a:t>SH Platform, 22 Jun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988D-5210-415D-BB4C-327AD796986F}" type="slidenum">
              <a:rPr b="1" lang="en-GB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4538-5191-4100-A48D-1FB0D7F6653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3AE-66AE-4CD4-AF8A-E6FE27CB018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AD07-7F70-4BDD-B149-532CCE9BC17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C99-C7B8-4A86-ACCF-DCE5021EB3C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7187-EC98-4973-8232-D5D7AFDA717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3184-F848-420A-8E6C-A888AEA10DF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A21-6EAE-4A47-A605-4F8ED4188E6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2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C95-A340-4750-BC4E-A46DAC1F33F7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44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4ED-029F-4509-90F6-70605AE32620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5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4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06A-949F-4BF8-B352-7139214AD825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FC4-AC25-42BA-8381-D41AD3C3D7E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E8EB-399D-4874-ADD7-6743F4C3F16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D1A-3220-411C-AF39-D53EC1FA0A1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9209-DCDA-4E88-A50E-3BA7B395112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5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5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B4E-E820-45B5-93C9-686E1B758A6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816-226E-401F-BC23-3A6C0219238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844-1FD0-417D-8DCE-312C211010D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610C-FC90-47BE-B00B-D5BDFF2C5C5E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6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6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7B2D-590A-48FA-B256-6AFF3C9B979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DEC-E9F0-48D1-81D6-8804C95F942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ftr" idx="74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sldNum" idx="7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CDF5-9549-4DA2-89DA-7E0A0C1D7D28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4E9-FE1D-4C24-8295-7CA8BBF4D85F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003-0B8E-4858-B9A4-CAA3FF7CE0B3}" type="slidenum">
              <a:rPr b="1" lang="en-GB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5" descr="140259-EFSA_PPTemplate_v5-hom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487320" y="3686040"/>
            <a:ext cx="45975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de70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Subtitle or location, </a:t>
            </a:r>
            <a:fld id="{AE12B2F4-E3D7-43A8-98A9-E93E40365223}" type="datetime"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07/31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481560" y="2339640"/>
            <a:ext cx="51019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1717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Main title 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space for a longer title on two or more 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C9F-ED38-424A-8E73-B40FB0F867C4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454-6B7B-4A59-93BE-A3893E49EE3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0ED-BA5F-4A08-9D7D-0D8B6AF35F5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BE9-2D10-4D4E-BAF1-E8ED163C0CFF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589.htm" TargetMode="External"/><Relationship Id="rId2" Type="http://schemas.openxmlformats.org/officeDocument/2006/relationships/hyperlink" Target="http://www.efsa.europa.eu/en/efsajournal/pub/3471.htm" TargetMode="External"/><Relationship Id="rId3" Type="http://schemas.openxmlformats.org/officeDocument/2006/relationships/hyperlink" Target="http://www.efsa.europa.eu/en/efsajournal/pub/3472.htm" TargetMode="External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15328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Current trends and developments in the risk assessment of plant protection products</a:t>
            </a: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Mr Chris Lythgo</a:t>
            </a:r>
            <a:br>
              <a:rPr sz="20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esticides Unit</a:t>
            </a: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73120" y="5468760"/>
            <a:ext cx="81280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Myriad Pro"/>
              </a:rPr>
              <a:t>Visit of the Brazilian technical mission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ffffff"/>
                </a:solidFill>
                <a:latin typeface="Myriad Pro"/>
              </a:rPr>
              <a:t>EFSA, Parma 10 October 2014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4"/>
          <p:cNvSpPr/>
          <p:nvPr/>
        </p:nvSpPr>
        <p:spPr>
          <a:xfrm>
            <a:off x="4859280" y="1268280"/>
            <a:ext cx="4033800" cy="40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EW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rotected Crops: 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20 March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Estimation of soil DegT</a:t>
            </a:r>
            <a:r>
              <a:rPr b="1" lang="en-GB" sz="1400" spc="-1" strike="noStrike">
                <a:solidFill>
                  <a:srgbClr val="171796"/>
                </a:solidFill>
                <a:latin typeface="Verdana"/>
              </a:rPr>
              <a:t>50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in May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826920" y="4292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 Guidance on Risk assessment of Be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Republished in 2014 (ref date 2013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Has been re-structured  and complemented with a “Calculator” for facilitating its u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21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Improving guidance use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“Calculators” and Info Ses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36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991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Stakeholder involve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9C3D-1AC5-4469-B92A-2C79760A860E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9" name="TextBox 7"/>
          <p:cNvSpPr/>
          <p:nvPr/>
        </p:nvSpPr>
        <p:spPr>
          <a:xfrm>
            <a:off x="4932360" y="1413000"/>
            <a:ext cx="3456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Public consultat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exposure for operators, workers, residents and bystand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Until 20 May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0" name="TextBox 8"/>
          <p:cNvSpPr/>
          <p:nvPr/>
        </p:nvSpPr>
        <p:spPr>
          <a:xfrm>
            <a:off x="324000" y="4437000"/>
            <a:ext cx="3960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Info Sess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protected crops and soil degradation rat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17-18 Jun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Registration until 30 Apri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41" name="Picture 2" descr="https://dam.efsa.europa.eu/mediabin/PreviewImage.asp?type=4&amp;repoid=%7bA8594A13-106E-479C-A080-3BA76EE9FFE8%7d&amp;version=8&amp;validate=NLFPLGNSKJ&amp;md=2-25-201111-18-06AM"/>
          <p:cNvPicPr/>
          <p:nvPr/>
        </p:nvPicPr>
        <p:blipFill>
          <a:blip r:embed="rId1"/>
          <a:stretch/>
        </p:blipFill>
        <p:spPr>
          <a:xfrm>
            <a:off x="6875640" y="2781360"/>
            <a:ext cx="1626840" cy="107928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4" descr="https://dam.efsa.europa.eu/mediabin/PreviewImage.asp?type=4&amp;repoid=%7bAB033EB3-5803-4C47-B6B7-7B294F55EC65%7d&amp;version=3&amp;validate=NLFPLGNSKJ&amp;md=4-20-20092-58-57PM"/>
          <p:cNvPicPr/>
          <p:nvPr/>
        </p:nvPicPr>
        <p:blipFill>
          <a:blip r:embed="rId2"/>
          <a:stretch/>
        </p:blipFill>
        <p:spPr>
          <a:xfrm>
            <a:off x="3564000" y="5445000"/>
            <a:ext cx="1452600" cy="9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0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79819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5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6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7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8" name="Straight Arrow Connector 18"/>
          <p:cNvCxnSpPr>
            <a:stCxn id="1246" idx="3"/>
            <a:endCxn id="1247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9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0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1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53" name="Straight Arrow Connector 24"/>
          <p:cNvCxnSpPr>
            <a:stCxn id="1251" idx="3"/>
            <a:endCxn id="1252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3" descr="European Dossier41"/>
          <p:cNvPicPr/>
          <p:nvPr/>
        </p:nvPicPr>
        <p:blipFill>
          <a:blip r:embed="rId1"/>
          <a:stretch/>
        </p:blipFill>
        <p:spPr>
          <a:xfrm>
            <a:off x="233280" y="2111400"/>
            <a:ext cx="1300320" cy="812880"/>
          </a:xfrm>
          <a:prstGeom prst="rect">
            <a:avLst/>
          </a:prstGeom>
          <a:ln w="9360">
            <a:solidFill>
              <a:srgbClr val="171796"/>
            </a:solidFill>
            <a:miter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6000" y="115920"/>
            <a:ext cx="79203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eer review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(legal framework Reg. (EC) No 1107/2009)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56" name="Immagine 3" descr="eu stati membri.png"/>
          <p:cNvPicPr/>
          <p:nvPr/>
        </p:nvPicPr>
        <p:blipFill>
          <a:blip r:embed="rId2"/>
          <a:srcRect l="2052" t="1326" r="2052" b="11559"/>
          <a:stretch/>
        </p:blipFill>
        <p:spPr>
          <a:xfrm>
            <a:off x="235080" y="3143160"/>
            <a:ext cx="1296720" cy="1160640"/>
          </a:xfrm>
          <a:prstGeom prst="rect">
            <a:avLst/>
          </a:prstGeom>
          <a:ln w="0">
            <a:noFill/>
          </a:ln>
        </p:spPr>
      </p:pic>
      <p:sp>
        <p:nvSpPr>
          <p:cNvPr id="1257" name="CasellaDiTesto 4"/>
          <p:cNvSpPr/>
          <p:nvPr/>
        </p:nvSpPr>
        <p:spPr>
          <a:xfrm>
            <a:off x="179280" y="1197000"/>
            <a:ext cx="1368360" cy="6426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Dossier submission 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8" name="CasellaDiTesto 5"/>
          <p:cNvSpPr/>
          <p:nvPr/>
        </p:nvSpPr>
        <p:spPr>
          <a:xfrm>
            <a:off x="1714680" y="5369040"/>
            <a:ext cx="1056960" cy="36828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EFSA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9" name="CasellaDiTesto 6"/>
          <p:cNvSpPr/>
          <p:nvPr/>
        </p:nvSpPr>
        <p:spPr>
          <a:xfrm>
            <a:off x="3147840" y="2116080"/>
            <a:ext cx="2000520" cy="18594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1796"/>
                </a:solidFill>
                <a:latin typeface="Arial"/>
              </a:rPr>
              <a:t>PEER REVIEW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FSA, RapporteurMS, other MSs,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U Commission, Notifier, Public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grpSp>
        <p:nvGrpSpPr>
          <p:cNvPr id="1260" name="Group 31"/>
          <p:cNvGrpSpPr/>
          <p:nvPr/>
        </p:nvGrpSpPr>
        <p:grpSpPr>
          <a:xfrm>
            <a:off x="5686560" y="1531800"/>
            <a:ext cx="3133440" cy="2554920"/>
            <a:chOff x="5686560" y="1531800"/>
            <a:chExt cx="3133440" cy="2554920"/>
          </a:xfrm>
        </p:grpSpPr>
        <p:sp>
          <p:nvSpPr>
            <p:cNvPr id="1261" name="CasellaDiTesto 8"/>
            <p:cNvSpPr/>
            <p:nvPr/>
          </p:nvSpPr>
          <p:spPr>
            <a:xfrm>
              <a:off x="5707080" y="1531800"/>
              <a:ext cx="311292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1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mmenting phase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2" name="CasellaDiTesto 9"/>
            <p:cNvSpPr/>
            <p:nvPr/>
          </p:nvSpPr>
          <p:spPr>
            <a:xfrm>
              <a:off x="5692680" y="2249280"/>
              <a:ext cx="3127320" cy="70380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2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valuation of comments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3" name="CasellaDiTesto 10"/>
            <p:cNvSpPr/>
            <p:nvPr/>
          </p:nvSpPr>
          <p:spPr>
            <a:xfrm>
              <a:off x="5686560" y="3111480"/>
              <a:ext cx="313344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3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xpert’s consultat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4" name="CasellaDiTesto 11"/>
            <p:cNvSpPr/>
            <p:nvPr/>
          </p:nvSpPr>
          <p:spPr>
            <a:xfrm>
              <a:off x="5729400" y="3687840"/>
              <a:ext cx="309060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4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nclus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pic>
        <p:nvPicPr>
          <p:cNvPr id="1265" name="Picture 12" descr=""/>
          <p:cNvPicPr/>
          <p:nvPr/>
        </p:nvPicPr>
        <p:blipFill>
          <a:blip r:embed="rId3"/>
          <a:stretch/>
        </p:blipFill>
        <p:spPr>
          <a:xfrm>
            <a:off x="210960" y="4653000"/>
            <a:ext cx="1343160" cy="1893960"/>
          </a:xfrm>
          <a:prstGeom prst="rect">
            <a:avLst/>
          </a:prstGeom>
          <a:ln w="9360">
            <a:solidFill>
              <a:srgbClr val="5050e4"/>
            </a:solidFill>
            <a:miter/>
          </a:ln>
        </p:spPr>
      </p:pic>
      <p:cxnSp>
        <p:nvCxnSpPr>
          <p:cNvPr id="1266" name="Straight Arrow Connector 14"/>
          <p:cNvCxnSpPr/>
          <p:nvPr/>
        </p:nvCxnSpPr>
        <p:spPr>
          <a:xfrm flipH="1">
            <a:off x="882000" y="2923920"/>
            <a:ext cx="1080" cy="29124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67" name="Straight Arrow Connector 17"/>
          <p:cNvCxnSpPr/>
          <p:nvPr/>
        </p:nvCxnSpPr>
        <p:spPr>
          <a:xfrm flipH="1">
            <a:off x="882360" y="4303800"/>
            <a:ext cx="2160" cy="35136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sp>
        <p:nvSpPr>
          <p:cNvPr id="1268" name="CasellaDiTesto 4"/>
          <p:cNvSpPr/>
          <p:nvPr/>
        </p:nvSpPr>
        <p:spPr>
          <a:xfrm>
            <a:off x="395280" y="5661000"/>
            <a:ext cx="9748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DAR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Draf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Assessment Repor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69" name="Straight Arrow Connector 20"/>
          <p:cNvCxnSpPr>
            <a:endCxn id="1258" idx="1"/>
          </p:cNvCxnSpPr>
          <p:nvPr/>
        </p:nvCxnSpPr>
        <p:spPr>
          <a:xfrm>
            <a:off x="1554120" y="5600520"/>
            <a:ext cx="161280" cy="108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70" name="Elbow Connector 23"/>
          <p:cNvCxnSpPr>
            <a:stCxn id="1258" idx="3"/>
            <a:endCxn id="1259" idx="1"/>
          </p:cNvCxnSpPr>
          <p:nvPr/>
        </p:nvCxnSpPr>
        <p:spPr>
          <a:xfrm flipV="1">
            <a:off x="2771280" y="3053880"/>
            <a:ext cx="376920" cy="2547360"/>
          </a:xfrm>
          <a:prstGeom prst="bentConnector3">
            <a:avLst>
              <a:gd name="adj1" fmla="val 50000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1" name="Left Brace 25"/>
          <p:cNvSpPr/>
          <p:nvPr/>
        </p:nvSpPr>
        <p:spPr>
          <a:xfrm>
            <a:off x="5219640" y="153180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592360"/>
              <a:gd name="textAreaBottom" fmla="*/ 25830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9154"/>
                </a:lnTo>
                <a:cubicBezTo>
                  <a:pt x="10800" y="9279"/>
                  <a:pt x="5400" y="9404"/>
                  <a:pt x="0" y="9404"/>
                </a:cubicBezTo>
                <a:cubicBezTo>
                  <a:pt x="5400" y="9404"/>
                  <a:pt x="10800" y="9529"/>
                  <a:pt x="10800" y="9654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72" name="TextBox 26"/>
          <p:cNvSpPr/>
          <p:nvPr/>
        </p:nvSpPr>
        <p:spPr>
          <a:xfrm>
            <a:off x="5076720" y="4653000"/>
            <a:ext cx="3743280" cy="12830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ing Committee on the Food Chain and Animal Health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CoFCAH = EC +MSs)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73" name="Shape 28"/>
          <p:cNvCxnSpPr>
            <a:stCxn id="1264" idx="3"/>
            <a:endCxn id="1272" idx="3"/>
          </p:cNvCxnSpPr>
          <p:nvPr/>
        </p:nvCxnSpPr>
        <p:spPr>
          <a:xfrm>
            <a:off x="8819640" y="3917520"/>
            <a:ext cx="2520" cy="1428120"/>
          </a:xfrm>
          <a:prstGeom prst="bentConnector3">
            <a:avLst>
              <a:gd name="adj1" fmla="val 14383333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4" name="TextBox 66"/>
          <p:cNvSpPr/>
          <p:nvPr/>
        </p:nvSpPr>
        <p:spPr>
          <a:xfrm>
            <a:off x="5076720" y="6165720"/>
            <a:ext cx="3743280" cy="368280"/>
          </a:xfrm>
          <a:prstGeom prst="rect">
            <a:avLst/>
          </a:prstGeom>
          <a:solidFill>
            <a:srgbClr val="111171"/>
          </a:solidFill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roval/Non Approva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ossier content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y dossier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mplete dossier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th full text of individual tests and study reports (studies involving deliberate administration to humans are not accepte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n line with the data requiremen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cientific peer-reviewed open literature over the last 10 years (active substance &amp; metabolites)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A934-28B9-43C2-840C-DE2716EA68BD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Dossier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39640" y="11970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epresentative uses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ies and results of tests and studies for each data requirement 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Vertebrate studies: justification on steps for avoiding animal testing and du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hecklist demonstrating completenes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When relevant copy of an Maximum Residue Levels (MRL) applic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ssessment of the information submitted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indent="37008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5CC-BD7A-4242-9FEA-287BFFD54BB0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19" descr=""/>
          <p:cNvPicPr/>
          <p:nvPr/>
        </p:nvPicPr>
        <p:blipFill>
          <a:blip r:embed="rId1"/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 Study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768-9C63-4233-A248-0D1A85B39EC0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4" name="TextBox 18"/>
          <p:cNvSpPr/>
          <p:nvPr/>
        </p:nvSpPr>
        <p:spPr>
          <a:xfrm>
            <a:off x="539640" y="1484280"/>
            <a:ext cx="19447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MATERIALS &amp; METHOD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experimental conditions,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5" name="TextBox 19"/>
          <p:cNvSpPr/>
          <p:nvPr/>
        </p:nvSpPr>
        <p:spPr>
          <a:xfrm>
            <a:off x="2627280" y="2924280"/>
            <a:ext cx="194472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the relevant experimental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6" name="TextBox 20"/>
          <p:cNvSpPr/>
          <p:nvPr/>
        </p:nvSpPr>
        <p:spPr>
          <a:xfrm>
            <a:off x="5724360" y="1268280"/>
            <a:ext cx="230364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SUPPORTING INFORM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demonstrating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7" name="TextBox 21"/>
          <p:cNvSpPr/>
          <p:nvPr/>
        </p:nvSpPr>
        <p:spPr>
          <a:xfrm>
            <a:off x="5580000" y="3933720"/>
            <a:ext cx="302436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KEY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 allowing verific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8" name="TextBox 22"/>
          <p:cNvSpPr/>
          <p:nvPr/>
        </p:nvSpPr>
        <p:spPr>
          <a:xfrm>
            <a:off x="5940360" y="5877000"/>
            <a:ext cx="230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19" descr="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raft Assessment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ccffff">
              <a:alpha val="64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Presents the risk assessment outcome from the rapporteur Member State (RM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ncludes the summary study reports for each relevant study commented by the RM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Describes the risk assessment output and RMS comments for each endpoint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published by EFSA for comment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updated with new information if releva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4F99-261D-41DF-94B4-1C9399C23A17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EFSA Conclus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8000" y="112536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utput of a scientific peer review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dentity and Phys/Chem properti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ammalian Toxicology &amp; Workers/bystander/residents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s &amp; Consumer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cotoxicology &amp; Ecosystem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ducted by EFSA scientific staff and risk assessment experts from the Member St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e PPR Panel is not involved, except occasionally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124776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tretch/>
        </p:blipFill>
        <p:spPr>
          <a:xfrm>
            <a:off x="7596360" y="4365720"/>
            <a:ext cx="120780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7" name="Picture 4" descr=""/>
          <p:cNvPicPr/>
          <p:nvPr/>
        </p:nvPicPr>
        <p:blipFill>
          <a:blip r:embed="rId3"/>
          <a:stretch/>
        </p:blipFill>
        <p:spPr>
          <a:xfrm>
            <a:off x="6516720" y="1484280"/>
            <a:ext cx="2016000" cy="282564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conclusions overview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94 conclusions published since 1 January 2013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New active substances Reg. 188/2011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Confirmatory data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rt 21 and amendments of approval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New elements for 2014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AIR II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new actives Reg. 1107/2009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0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A1E-0A3F-4E05-9BD0-7CEE0657194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88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89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0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1" name="Straight Arrow Connector 18"/>
          <p:cNvCxnSpPr>
            <a:stCxn id="1189" idx="3"/>
            <a:endCxn id="1190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92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3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4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5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6" name="Straight Arrow Connector 24"/>
          <p:cNvCxnSpPr>
            <a:stCxn id="1194" idx="3"/>
            <a:endCxn id="1195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ecent and ongoing activiti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Selected examples:</a:t>
            </a:r>
            <a:endParaRPr b="0" lang="en-US" sz="36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General issu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sessment of Endocrine Disruptor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pecific mand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isk of neonicotinoids and fipronil to be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vised assessment of chlorpyrifo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icrobi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4CC-B180-4EEE-A053-148DF4A2CCD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ndocrine effec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opinion of EFSA Scientific Committee opinion published in 2013, the assessment will focus on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four axes with available tests: oestrogen, androgen, thyroid or steroidogenesis (EAT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identification of additional concerns from relevant apical studies, information from the literature search, or other information sourc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6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585B-FAA3-4D81-ADC0-AE83B2780DD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04D-4CB9-4ECF-BE21-2817FD65B867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08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734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yriad Pro"/>
              </a:rPr>
              <a:t>EFSA Conclusions risk for Bees </a:t>
            </a:r>
            <a:r>
              <a:rPr b="0" lang="fr-FR" sz="2800" spc="-1" strike="noStrike">
                <a:solidFill>
                  <a:srgbClr val="ffffff"/>
                </a:solidFill>
                <a:latin typeface="Myriad Pro"/>
              </a:rPr>
              <a:t>(seed treatments, soil applications)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419-51E0-4D58-BEEB-E1AB5734196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590560" cy="370692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2" name="Picture 4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2610000" cy="3673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3" name="Picture 5" descr=""/>
          <p:cNvPicPr/>
          <p:nvPr/>
        </p:nvPicPr>
        <p:blipFill>
          <a:blip r:embed="rId3"/>
          <a:stretch/>
        </p:blipFill>
        <p:spPr>
          <a:xfrm>
            <a:off x="2556000" y="1773360"/>
            <a:ext cx="2566800" cy="3646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sp>
        <p:nvSpPr>
          <p:cNvPr id="1314" name="TextBox 10"/>
          <p:cNvSpPr/>
          <p:nvPr/>
        </p:nvSpPr>
        <p:spPr>
          <a:xfrm>
            <a:off x="324000" y="5732640"/>
            <a:ext cx="6298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Neonicotinoids: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 Published 16 January 2013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ipronil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: Published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27 May 2013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5" name="Picture 5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2567160" cy="364680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2122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Resul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0E5-C85E-4AC8-9530-7918A703FB9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79280" y="1628640"/>
          <a:ext cx="6264360" cy="5094360"/>
        </p:xfrm>
        <a:graphic>
          <a:graphicData uri="http://schemas.openxmlformats.org/drawingml/2006/table">
            <a:tbl>
              <a:tblPr/>
              <a:tblGrid>
                <a:gridCol w="1728720"/>
                <a:gridCol w="1403640"/>
                <a:gridCol w="1566720"/>
                <a:gridCol w="1565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DUST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Pollen and Necta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Guttati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Clothianidi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Imidaclopri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Sunflower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Thiamethoxam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Fipronil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</a:tbl>
          </a:graphicData>
        </a:graphic>
      </p:graphicFrame>
      <p:sp>
        <p:nvSpPr>
          <p:cNvPr id="1319" name="Rectangle 4"/>
          <p:cNvSpPr/>
          <p:nvPr/>
        </p:nvSpPr>
        <p:spPr>
          <a:xfrm>
            <a:off x="6588000" y="2492280"/>
            <a:ext cx="216072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9a9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For many of the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authorised use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and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several aspects of the risk assessments 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not enough data were available to finalise the evaluation or data were not sufficien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179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 identified (acute risk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933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250920" y="1915920"/>
            <a:ext cx="8748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In June 2013, EFSA received a mandate to review the risk assessment for the PPPs applied as foliar spray, containing thiamethoxam, clothianidin and imidacloprid;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rom February to May 2014, EFSA conducted a peer review of study protocol submitted by the companies;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EFSA may be requested by the EC to review the new information. 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Chlorpyrifo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Conclusion on the peer review of the pesticide human health risk assessment of the active substance chlorpyrifo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ublished on 22 April 2014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Based on the use of the Red Blood Cell cholinesterase inhibition to derive the reference valu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is approach was endorsed by the PPR Panel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roposes new ADI and AOEL of 0.001 mg/kg bw per day, and an ARfD of 0.005 mg/kg bw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commends to set two separate residue definitions and to perform two separate consumer risk assessments, for chlorpyrifos and TCP respectively </a:t>
            </a:r>
            <a:r>
              <a:rPr b="0" lang="en-GB" sz="2400" spc="-1" strike="noStrike">
                <a:solidFill>
                  <a:srgbClr val="17179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MRL setting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bial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Active substance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’: 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substances, including micro-organism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having general or specific action against harmful organisms or on plants, parts of plants or plant products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substances’: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hemical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 elements and thei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ompound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as they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occur naturally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by manufacture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including impurities from the manufacturing process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micro-organism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’: microbiological entity, including lower fungi and viruses, cellular or non-cellular,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apable of replication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of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transferring genetic material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isk assessment for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pproval criteria for “active substances” (e.g. Annex II Reg. 1107/2009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Uniform principles (e.g. Reg. 546/2011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1. Chemical plant protection produc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2. plant protection products containing micro-organism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ata requirements (e.g. Reg. 283/2013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A. Chemic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B. Microorganisms including virus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DA2-1C8F-43A6-9E99-3ADCC0C89AB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0" name="Rounded Rectangle 5"/>
          <p:cNvSpPr/>
          <p:nvPr/>
        </p:nvSpPr>
        <p:spPr>
          <a:xfrm>
            <a:off x="611280" y="5373720"/>
            <a:ext cx="4321080" cy="129528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Chemic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Semiochemical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Microbial toxin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Inert microorganism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1" name="Rounded Rectangle 6"/>
          <p:cNvSpPr/>
          <p:nvPr/>
        </p:nvSpPr>
        <p:spPr>
          <a:xfrm>
            <a:off x="5292720" y="5373720"/>
            <a:ext cx="3311640" cy="136836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Microbi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32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564000" y="5445000"/>
            <a:ext cx="1233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organism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Bacillus pumilus strain QST 2808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ield and greenhouse spraying ap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Streptomyces lydicus WYEC 108: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high volume drench, via drip irrigation systems, seed treat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Zucchini yellow mosaic virus - weak strain (ZYMV-WK) applications by jet injec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36" name="TextBox 5"/>
          <p:cNvSpPr/>
          <p:nvPr/>
        </p:nvSpPr>
        <p:spPr>
          <a:xfrm>
            <a:off x="288720" y="126828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Conclusions cover different taxa and application rout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Panel expertise 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79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wenty-one independent scientific experts, covering: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Chemical active substance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icrobiological active substanc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Physical-chemical properties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ethods of analysi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oxicology and regulatory 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Non dietary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Dietary exposure and risk assessment of pesticides residues in food and feed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y and population dynamic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ical/Environmental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.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9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1CED-FC05-4C10-87E3-DC43FF433E6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0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20000" y="1341360"/>
            <a:ext cx="21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ain basis for the conclu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0920" y="1413000"/>
            <a:ext cx="880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id not cause signs of toxicity, infectivity and pathogenicity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ue to lack of data on the potential production of toxins/metabolites of concern risk assessment cannot be finalised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24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otential risk of infecting and producing adverse effects in animal hosts and humans is low.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isk (effects and transmission) for non-target plants could not be finalise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3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395280" y="0"/>
            <a:ext cx="842472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Data gaps / issues identified in EFS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sticide conclusions on microorganisms: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hods for identify the strai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Interferenc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on prescribed methods of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analysis for pathogens in drinking water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Relationship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lack of) to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known pathoge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ompetitiveness / multiplicatio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ransfer of genetic information to other speci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primary concern plasmids between bacteria specie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apacity for producing metabolit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including other strains of the species, conditions of production.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Production and levels of metabolites in environmental compartme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Ecotoxicity studi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too short to conclude lack of pathogenicity or infectivity to non target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395280" y="260280"/>
            <a:ext cx="8497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er reviewed scientific literatur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Systematic review of the available literatur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for the organism strain and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abolit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that the strain or species might produce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following the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May cover other strains of the same or related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When evidence is cited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he paper should be included in the dossier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41" name="Straight Arrow Connector 10"/>
          <p:cNvCxnSpPr>
            <a:endCxn id="1342" idx="1"/>
          </p:cNvCxnSpPr>
          <p:nvPr/>
        </p:nvCxnSpPr>
        <p:spPr>
          <a:xfrm flipV="1">
            <a:off x="2123640" y="5748120"/>
            <a:ext cx="5256720" cy="57600"/>
          </a:xfrm>
          <a:prstGeom prst="straightConnector1">
            <a:avLst/>
          </a:prstGeom>
          <a:ln w="76320">
            <a:solidFill>
              <a:srgbClr val="171796"/>
            </a:solidFill>
            <a:miter/>
            <a:tailEnd len="med" type="triangle" w="med"/>
          </a:ln>
        </p:spPr>
      </p:cxnSp>
      <p:pic>
        <p:nvPicPr>
          <p:cNvPr id="1343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2484360" y="4869000"/>
            <a:ext cx="1081080" cy="107928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780000" y="5516640"/>
            <a:ext cx="1015920" cy="1022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" descr="https://dam.efsa.europa.eu/mediabin/PreviewImage.asp?type=4&amp;repoid=%7bFC0615E1-6E08-4091-A6D9-C9955B9124EE%7d&amp;version=5&amp;validate=NLFPLGNSKJ&amp;md=11-29-20125-35-47PM"/>
          <p:cNvPicPr/>
          <p:nvPr/>
        </p:nvPicPr>
        <p:blipFill>
          <a:blip r:embed="rId3"/>
          <a:stretch/>
        </p:blipFill>
        <p:spPr>
          <a:xfrm>
            <a:off x="395280" y="5013360"/>
            <a:ext cx="1725480" cy="1152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6" descr="https://dam.efsa.europa.eu/mediabin/PreviewImage.asp?type=4&amp;repoid=%7bFC706DC2-41FD-4DD0-830B-4E750A2B7E9C%7d&amp;version=1&amp;validate=NLFPLGNSKJ&amp;md=12-6-20132-31-33PM"/>
          <p:cNvPicPr/>
          <p:nvPr/>
        </p:nvPicPr>
        <p:blipFill>
          <a:blip r:embed="rId4"/>
          <a:stretch/>
        </p:blipFill>
        <p:spPr>
          <a:xfrm>
            <a:off x="5435640" y="4581360"/>
            <a:ext cx="1341360" cy="2006640"/>
          </a:xfrm>
          <a:prstGeom prst="rect">
            <a:avLst/>
          </a:prstGeom>
          <a:ln w="0">
            <a:noFill/>
          </a:ln>
        </p:spPr>
      </p:pic>
      <p:sp>
        <p:nvSpPr>
          <p:cNvPr id="1347" name="TextBox 11"/>
          <p:cNvSpPr/>
          <p:nvPr/>
        </p:nvSpPr>
        <p:spPr>
          <a:xfrm>
            <a:off x="553320" y="6165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5691240" y="4724280"/>
            <a:ext cx="872640" cy="459720"/>
          </a:xfrm>
          <a:prstGeom prst="rect">
            <a:avLst/>
          </a:prstGeom>
          <a:solidFill>
            <a:srgbClr val="fb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AT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9" name="TextBox 11"/>
          <p:cNvSpPr/>
          <p:nvPr/>
        </p:nvSpPr>
        <p:spPr>
          <a:xfrm>
            <a:off x="241128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0" name="TextBox 12"/>
          <p:cNvSpPr/>
          <p:nvPr/>
        </p:nvSpPr>
        <p:spPr>
          <a:xfrm>
            <a:off x="370836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1" name="TextBox 13"/>
          <p:cNvSpPr/>
          <p:nvPr/>
        </p:nvSpPr>
        <p:spPr>
          <a:xfrm>
            <a:off x="543564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52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5"/>
          <a:stretch/>
        </p:blipFill>
        <p:spPr>
          <a:xfrm rot="1999200">
            <a:off x="5579640" y="567072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342" name="TextBox 15"/>
          <p:cNvSpPr/>
          <p:nvPr/>
        </p:nvSpPr>
        <p:spPr>
          <a:xfrm>
            <a:off x="7494480" y="5516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69339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MRL reasoned opinions included in EFSA Conclusions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33520" y="1428840"/>
            <a:ext cx="83246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New Conclusion and LOEP template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ll be as a stand-alone document containing </a:t>
            </a: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also the information needed to provide the reasoned EFSA opinion on MRL proposals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.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MRL applications on import tolerances should not be assessed as long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 the documentation corresponding national legislation of the exporting country as not been submitted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active substance effectively registered in the exporting country, and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MRL published in the national legislation of the exporting country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6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57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8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9" name="Straight Arrow Connector 18"/>
          <p:cNvCxnSpPr>
            <a:stCxn id="1357" idx="3"/>
            <a:endCxn id="1358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60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1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2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3" name="TextBox 23"/>
          <p:cNvSpPr/>
          <p:nvPr/>
        </p:nvSpPr>
        <p:spPr>
          <a:xfrm>
            <a:off x="4572000" y="3573360"/>
            <a:ext cx="3600360" cy="11912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Provides Conclusions for single active substances to support the EU decision-mak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64" name="Straight Arrow Connector 24"/>
          <p:cNvCxnSpPr>
            <a:stCxn id="1362" idx="3"/>
            <a:endCxn id="1363" idx="1"/>
          </p:cNvCxnSpPr>
          <p:nvPr/>
        </p:nvCxnSpPr>
        <p:spPr>
          <a:xfrm flipV="1">
            <a:off x="3777840" y="4172760"/>
            <a:ext cx="7945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688-40A9-4587-A11B-57FD31819FB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U MRL legislat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Myriad Pro"/>
              </a:rPr>
              <a:t>Regulation (EC) No 396/2005 of the European Parliament and of the Council on maximum residue levels in or on food and feed of plant and animal origin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rocedure for MRL setting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Official control of MRL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Definition of responsibilities (role of Member States, European Commission, European Food Safety Authority, manufacturer of pesticides, food business operator, etc.)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Annexes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: List of commodities for which MRLs are established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I and Annex III: List of MRL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V: Active substances exempted from setting MRL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: specific LOQ value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I: processing factor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Basic regulation: </a:t>
            </a:r>
            <a:br>
              <a:rPr sz="1400"/>
            </a:b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http://eur-lex.europa.eu/LexUriServ/LexUriServ.do?uri=OJ:L:2005:070:0001:0016:EN:PDF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MRL reasoned opin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50 RO/year reviewing MRLs for approved/non-approved active substances (Art 12 RO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60-70 RO/year new proposals and modifications of existing MR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urther details in a later present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Procedure for MRL setting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28400" y="1357200"/>
            <a:ext cx="85359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itiated by PPP applicants, growers, importers, food producers, MSs,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cludes a dossier with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GAP (Good Agricultural Practice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 data package (Annex II, chapter 6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oxicological data package (if no EU ADI/ARf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nalytical methods for monitoring/enforcement of MRL in the relevant crop (Annex II, chapter 4.2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Rapporteur MS produces an Evaluation Repor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FSA scientific staff assess the information and conduct a consumers risk assess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ooter Placeholder 3"/>
          <p:cNvSpPr/>
          <p:nvPr/>
        </p:nvSpPr>
        <p:spPr>
          <a:xfrm>
            <a:off x="6134040" y="447840"/>
            <a:ext cx="2505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73" name="TextBox 5"/>
          <p:cNvSpPr/>
          <p:nvPr/>
        </p:nvSpPr>
        <p:spPr>
          <a:xfrm>
            <a:off x="4304880" y="335772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1796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Oval 11"/>
          <p:cNvGrpSpPr/>
          <p:nvPr/>
        </p:nvGrpSpPr>
        <p:grpSpPr>
          <a:xfrm>
            <a:off x="2639880" y="225360"/>
            <a:ext cx="3973680" cy="2262240"/>
            <a:chOff x="2639880" y="225360"/>
            <a:chExt cx="3973680" cy="2262240"/>
          </a:xfrm>
        </p:grpSpPr>
        <p:pic>
          <p:nvPicPr>
            <p:cNvPr id="1202" name="Oval 11" descr=""/>
            <p:cNvPicPr/>
            <p:nvPr/>
          </p:nvPicPr>
          <p:blipFill>
            <a:blip r:embed="rId1"/>
            <a:stretch/>
          </p:blipFill>
          <p:spPr>
            <a:xfrm>
              <a:off x="2639880" y="225360"/>
              <a:ext cx="39736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3265560" y="574560"/>
              <a:ext cx="2727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grpSp>
        <p:nvGrpSpPr>
          <p:cNvPr id="1204" name="Oval 7"/>
          <p:cNvGrpSpPr/>
          <p:nvPr/>
        </p:nvGrpSpPr>
        <p:grpSpPr>
          <a:xfrm>
            <a:off x="731880" y="2548080"/>
            <a:ext cx="7759800" cy="4329000"/>
            <a:chOff x="731880" y="2548080"/>
            <a:chExt cx="7759800" cy="4329000"/>
          </a:xfrm>
        </p:grpSpPr>
        <p:pic>
          <p:nvPicPr>
            <p:cNvPr id="1205" name="Oval 7" descr=""/>
            <p:cNvPicPr/>
            <p:nvPr/>
          </p:nvPicPr>
          <p:blipFill>
            <a:blip r:embed="rId2"/>
            <a:stretch/>
          </p:blipFill>
          <p:spPr>
            <a:xfrm>
              <a:off x="731880" y="2548080"/>
              <a:ext cx="775980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1886040" y="3198960"/>
              <a:ext cx="545472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sp>
        <p:nvSpPr>
          <p:cNvPr id="1207" name="Slide Number Placeholder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4D30-1B7A-4E13-95F7-D9DA6AD3AE7A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8" name="Diagram 2" descr=""/>
          <p:cNvPicPr/>
          <p:nvPr/>
        </p:nvPicPr>
        <p:blipFill>
          <a:blip r:embed="rId3"/>
          <a:stretch/>
        </p:blipFill>
        <p:spPr>
          <a:xfrm>
            <a:off x="603360" y="1407960"/>
            <a:ext cx="8076960" cy="50533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" descr="C:\Documents and Settings\reichhe\Local Settings\Temporary Internet Files\Content.IE5\IWDBSYJ6\MC900384206[1].wmf"/>
          <p:cNvPicPr/>
          <p:nvPr/>
        </p:nvPicPr>
        <p:blipFill>
          <a:blip r:embed="rId4"/>
          <a:stretch/>
        </p:blipFill>
        <p:spPr>
          <a:xfrm>
            <a:off x="3286080" y="1428840"/>
            <a:ext cx="1300320" cy="1812960"/>
          </a:xfrm>
          <a:prstGeom prst="rect">
            <a:avLst/>
          </a:prstGeom>
          <a:ln w="0">
            <a:noFill/>
          </a:ln>
        </p:spPr>
      </p:pic>
      <p:sp>
        <p:nvSpPr>
          <p:cNvPr id="1210" name="TextBox 9"/>
          <p:cNvSpPr/>
          <p:nvPr/>
        </p:nvSpPr>
        <p:spPr>
          <a:xfrm>
            <a:off x="2843280" y="1125360"/>
            <a:ext cx="32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Opinions &amp; 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1" name="TextBox 10"/>
          <p:cNvSpPr/>
          <p:nvPr/>
        </p:nvSpPr>
        <p:spPr>
          <a:xfrm>
            <a:off x="2627280" y="551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cientific staff working with Member States exper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2" name="TextBox 12"/>
          <p:cNvSpPr/>
          <p:nvPr/>
        </p:nvSpPr>
        <p:spPr>
          <a:xfrm>
            <a:off x="2987640" y="692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PPR Panel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142920" y="142920"/>
            <a:ext cx="793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yriad Pro"/>
              </a:rPr>
              <a:t>Pesticides Unit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"/>
          <p:cNvSpPr/>
          <p:nvPr/>
        </p:nvSpPr>
        <p:spPr>
          <a:xfrm>
            <a:off x="250920" y="148428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1"/>
              </a:rPr>
              <a:t> Good modelling practice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7 March 2014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2"/>
              </a:rPr>
              <a:t> Developmental neurotoxicity potential of acetamiprid and imidacloprid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7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3"/>
              </a:rPr>
              <a:t> Relevance of dissimilar mode of action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3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 on tiered risk assessment for edge-of-field surface water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8 July 2013 Guidance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Cumulative Assessment Groups for Pesticide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2 Jul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High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8 June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Low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7 Februar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utputs 2013- 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3"/>
          <p:cNvSpPr/>
          <p:nvPr/>
        </p:nvSpPr>
        <p:spPr>
          <a:xfrm>
            <a:off x="250920" y="1268280"/>
            <a:ext cx="8569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arthropod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in-soil risk assessment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-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terrestrial pla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mphibians and reptil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on the FERA guidance proposal “Guidance on how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ged sorption studies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r pesticides should be conducted, analysed and used in regulatory assessments” (FERA, 2012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…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ngoing opinion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icture 14"/>
          <p:cNvSpPr/>
          <p:nvPr/>
        </p:nvSpPr>
        <p:spPr>
          <a:xfrm rot="5400000">
            <a:off x="5615640" y="2258280"/>
            <a:ext cx="27003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9" name="Rectangle 9"/>
          <p:cNvSpPr/>
          <p:nvPr/>
        </p:nvSpPr>
        <p:spPr>
          <a:xfrm>
            <a:off x="179280" y="148428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Myriad Pro"/>
              </a:rPr>
              <a:t>Development of a guidance document : typical sequence of event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dentification of a need / Drafting of a mandat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llection of dat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pinion of the PPR Panel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stablishment of a Working Group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reparation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sultations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doption (or approval) of the Guidanc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ntry into forc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0" name="Picture 4"/>
          <p:cNvSpPr/>
          <p:nvPr/>
        </p:nvSpPr>
        <p:spPr>
          <a:xfrm>
            <a:off x="5214960" y="3429000"/>
            <a:ext cx="345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and 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23" name="TextBox 7"/>
          <p:cNvSpPr/>
          <p:nvPr/>
        </p:nvSpPr>
        <p:spPr>
          <a:xfrm>
            <a:off x="2627280" y="1773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Scientific opinions: as starting point for further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24" name="Elbow Connector 9"/>
          <p:cNvCxnSpPr/>
          <p:nvPr/>
        </p:nvCxnSpPr>
        <p:spPr>
          <a:xfrm>
            <a:off x="2556000" y="3429000"/>
            <a:ext cx="3745440" cy="1440360"/>
          </a:xfrm>
          <a:prstGeom prst="bentConnector3">
            <a:avLst>
              <a:gd name="adj1" fmla="val 58858"/>
            </a:avLst>
          </a:prstGeom>
          <a:ln w="76320">
            <a:solidFill>
              <a:srgbClr val="5050e4"/>
            </a:solidFill>
            <a:round/>
            <a:tailEnd len="med" type="triangle" w="med"/>
          </a:ln>
        </p:spPr>
      </p:cxnSp>
      <p:cxnSp>
        <p:nvCxnSpPr>
          <p:cNvPr id="1225" name="Straight Arrow Connector 13"/>
          <p:cNvCxnSpPr/>
          <p:nvPr/>
        </p:nvCxnSpPr>
        <p:spPr>
          <a:xfrm flipH="1">
            <a:off x="3131640" y="4868640"/>
            <a:ext cx="1728000" cy="1080"/>
          </a:xfrm>
          <a:prstGeom prst="straightConnector1">
            <a:avLst/>
          </a:prstGeom>
          <a:ln w="7632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226" name="TextBox 17"/>
          <p:cNvSpPr/>
          <p:nvPr/>
        </p:nvSpPr>
        <p:spPr>
          <a:xfrm>
            <a:off x="3101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PR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7" name="TextBox 18"/>
          <p:cNvSpPr/>
          <p:nvPr/>
        </p:nvSpPr>
        <p:spPr>
          <a:xfrm>
            <a:off x="4829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28" name="Picture 1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202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rotection goal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3640" y="1557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regulatory frame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pproval criteria, data requirements, uniform principl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31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0BC6-5F2D-4C65-97A6-83BE58FE6247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32" name="Picture 2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68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8:43:13Z</dcterms:created>
  <dc:creator>Geert Deveuster</dc:creator>
  <dc:description/>
  <cp:keywords/>
  <dc:language>en-US</dc:language>
  <cp:lastModifiedBy>Lythgo</cp:lastModifiedBy>
  <cp:lastPrinted>1904-01-01T00:00:00Z</cp:lastPrinted>
  <dcterms:modified xsi:type="dcterms:W3CDTF">2014-10-10T06:40:59Z</dcterms:modified>
  <cp:revision>1072</cp:revision>
  <dc:subject/>
  <dc:title>PowerPoint Presentation</dc:title>
</cp:coreProperties>
</file>